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072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61168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603360" y="900000"/>
            <a:ext cx="45655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61168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E318-BCF7-41DE-889D-5C4D71D38B5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AE0C-2F4E-42FE-ACC9-D5B89BB6769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3C20-5988-49E2-BD79-01D136582C1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2E95-BDE6-45FB-AFA5-FFA814DA81B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9151-DA58-42E8-93E1-BFC4312F90B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8854-DB78-495A-A1C1-157635348F7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BF3F-D15B-49F0-B5DC-49F34B31BD3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56C0-AB1E-477D-8856-6E0BB7FDF71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D0A5-E140-4758-A93E-5DD09507C46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8FA1-F63A-4A49-A729-5B7FAD1FA58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7639-A28D-42BB-80AA-3ADA903C465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DD34-17DF-449C-8FB0-A1DD3AB5FF0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1213-815D-4123-8FAA-6E3EC51D3C5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5D74-C27D-4736-8DE3-6FD52A9B9BA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C803-D64D-48A5-A6CC-FD4E02520DC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BC74-706B-4720-8207-1BB7561539B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7F7A-F82A-4244-BE4F-7D91E620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5BEB-ECAD-4128-827A-3D28F43C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41F-9256-40B3-A0F7-6224D3E9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E23-68BE-40A8-9875-E6EBEFD6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C0DA-1027-4FD7-A04A-BFDAEE5B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E565-7041-4E39-8AF2-60D01CC0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40FF-6726-4D2A-9CAA-1F4EC49B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44E4-F791-41B8-A96E-238A1ACC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9B89-70A7-46DA-ADAA-A79DD1B2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7AD2-177B-47F3-A887-2BC59B1F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576F-2151-4FE9-BAA1-A980DAAF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393-AEFC-418D-9432-748C9CC8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72C8-E7B0-46FA-8C04-848A4B78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F6F9-7CFB-4B96-B0B4-5D43E1AF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D6A3-EC48-4DF3-ACD4-567AB40C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F246-A4EB-4AB8-A7BB-B2638129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4D91-003E-45DC-8D60-60CB161B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38ED-43A2-4C04-AE38-8BC7C0F4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B934-D45B-4D87-ACA9-070E2730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9E52-20B7-4798-A766-DB1473E7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6E31-8F6C-4C96-9678-40CDDF4A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F54-4901-431E-A788-2A6F9D12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EE6F-BEA8-4E6F-B55A-1D5A6343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B231-7D4D-4EF3-9FA3-DF29FD00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3C99-F475-4766-BF54-7AB3D31C2B5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C2F7-78EB-43D4-B585-0077BEA8F677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rdenman@thetourismcompany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4" descr="logo_unwto_ppt.jpg"/>
          <p:cNvPicPr/>
          <p:nvPr/>
        </p:nvPicPr>
        <p:blipFill>
          <a:blip r:embed="rId1"/>
          <a:stretch/>
        </p:blipFill>
        <p:spPr>
          <a:xfrm>
            <a:off x="517680" y="0"/>
            <a:ext cx="987120" cy="1395360"/>
          </a:xfrm>
          <a:prstGeom prst="rect">
            <a:avLst/>
          </a:prstGeom>
          <a:ln w="0">
            <a:noFill/>
          </a:ln>
        </p:spPr>
      </p:pic>
      <p:sp>
        <p:nvSpPr>
          <p:cNvPr id="91" name="Conector recto 4"/>
          <p:cNvSpPr/>
          <p:nvPr/>
        </p:nvSpPr>
        <p:spPr>
          <a:xfrm>
            <a:off x="4089240" y="0"/>
            <a:ext cx="0" cy="685800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7"/>
          <p:cNvSpPr/>
          <p:nvPr/>
        </p:nvSpPr>
        <p:spPr>
          <a:xfrm flipH="1">
            <a:off x="517680" y="2540160"/>
            <a:ext cx="8626320" cy="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ector recto 11"/>
          <p:cNvSpPr/>
          <p:nvPr/>
        </p:nvSpPr>
        <p:spPr>
          <a:xfrm>
            <a:off x="6654960" y="0"/>
            <a:ext cx="0" cy="254016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ángulo 12"/>
          <p:cNvSpPr/>
          <p:nvPr/>
        </p:nvSpPr>
        <p:spPr>
          <a:xfrm>
            <a:off x="517680" y="2540160"/>
            <a:ext cx="3571560" cy="4317840"/>
          </a:xfrm>
          <a:prstGeom prst="rect">
            <a:avLst/>
          </a:prstGeom>
          <a:solidFill>
            <a:srgbClr val="c8c9e8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uadroTexto 3"/>
          <p:cNvSpPr/>
          <p:nvPr/>
        </p:nvSpPr>
        <p:spPr>
          <a:xfrm>
            <a:off x="552600" y="2784600"/>
            <a:ext cx="355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REGIONAL COAST ST G&amp;M SEMIN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Ada, Gh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October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4 CuadroTexto"/>
          <p:cNvSpPr/>
          <p:nvPr/>
        </p:nvSpPr>
        <p:spPr>
          <a:xfrm>
            <a:off x="4211640" y="2708280"/>
            <a:ext cx="457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MS PGothic"/>
              </a:rPr>
              <a:t>Managing Coastal Environments linked to tou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416320" cy="181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P7140478"/>
          <p:cNvPicPr/>
          <p:nvPr/>
        </p:nvPicPr>
        <p:blipFill>
          <a:blip r:embed="rId3"/>
          <a:stretch/>
        </p:blipFill>
        <p:spPr>
          <a:xfrm>
            <a:off x="4235400" y="468360"/>
            <a:ext cx="2336760" cy="182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Content Placeholder 3" descr=""/>
          <p:cNvPicPr/>
          <p:nvPr/>
        </p:nvPicPr>
        <p:blipFill>
          <a:blip r:embed="rId4"/>
          <a:stretch/>
        </p:blipFill>
        <p:spPr>
          <a:xfrm>
            <a:off x="6726240" y="517680"/>
            <a:ext cx="237024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MG_8635"/>
          <p:cNvPicPr/>
          <p:nvPr/>
        </p:nvPicPr>
        <p:blipFill>
          <a:blip r:embed="rId1"/>
          <a:stretch/>
        </p:blipFill>
        <p:spPr>
          <a:xfrm>
            <a:off x="826920" y="765000"/>
            <a:ext cx="7475760" cy="56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Tackling coastal management issu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Generate resources from tourism to support conservation 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income from admission and conc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courage businesses to support con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velop gifting schemes aimed at tour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income from fines and penal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1" name="Picture 6" descr="IMG_0747"/>
          <p:cNvPicPr/>
          <p:nvPr/>
        </p:nvPicPr>
        <p:blipFill>
          <a:blip r:embed="rId1"/>
          <a:stretch/>
        </p:blipFill>
        <p:spPr>
          <a:xfrm>
            <a:off x="539640" y="549360"/>
            <a:ext cx="8209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3" name="Picture 9" descr="IMG_8933"/>
          <p:cNvPicPr/>
          <p:nvPr/>
        </p:nvPicPr>
        <p:blipFill>
          <a:blip r:embed="rId1"/>
          <a:stretch/>
        </p:blipFill>
        <p:spPr>
          <a:xfrm>
            <a:off x="684360" y="692280"/>
            <a:ext cx="7488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IMG_9039"/>
          <p:cNvPicPr/>
          <p:nvPr/>
        </p:nvPicPr>
        <p:blipFill>
          <a:blip r:embed="rId1"/>
          <a:stretch/>
        </p:blipFill>
        <p:spPr>
          <a:xfrm>
            <a:off x="826920" y="333360"/>
            <a:ext cx="74757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ichard Den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denman@thetourismcompany.co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Managing coastal environments linked to tourism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lier sections cover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overnance, policies,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fluencing the impact of tourism developments and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e are now addressing some more direct activities for management of coastal environ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is ab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dress the causes and consequences of environmental degradati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 a result of tourism;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rom other sources, which consequently damage the tourism ass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B. Not a detailed treatment – this was an overall governance and management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3" name="Picture 8" descr="DSCF0207"/>
          <p:cNvPicPr/>
          <p:nvPr/>
        </p:nvPicPr>
        <p:blipFill>
          <a:blip r:embed="rId1"/>
          <a:stretch/>
        </p:blipFill>
        <p:spPr>
          <a:xfrm>
            <a:off x="5076720" y="3789360"/>
            <a:ext cx="3132360" cy="237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DSCF0843"/>
          <p:cNvPicPr/>
          <p:nvPr/>
        </p:nvPicPr>
        <p:blipFill>
          <a:blip r:embed="rId2"/>
          <a:stretch/>
        </p:blipFill>
        <p:spPr>
          <a:xfrm>
            <a:off x="4859280" y="620640"/>
            <a:ext cx="3600360" cy="2524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IMG_9024"/>
          <p:cNvPicPr/>
          <p:nvPr/>
        </p:nvPicPr>
        <p:blipFill>
          <a:blip r:embed="rId3"/>
          <a:stretch/>
        </p:blipFill>
        <p:spPr>
          <a:xfrm>
            <a:off x="1042920" y="3789360"/>
            <a:ext cx="3313080" cy="2330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755640" y="1125360"/>
            <a:ext cx="360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i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o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astal ero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Tackling coastal management issu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Monitor environmental change and coordinate respon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itor the state of the environment using basic indicators and observ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ntify clear lines of respon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 together on joint 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IMG_8606"/>
          <p:cNvPicPr/>
          <p:nvPr/>
        </p:nvPicPr>
        <p:blipFill>
          <a:blip r:embed="rId1"/>
          <a:stretch/>
        </p:blipFill>
        <p:spPr>
          <a:xfrm>
            <a:off x="900000" y="476280"/>
            <a:ext cx="74757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IMG_8440"/>
          <p:cNvPicPr/>
          <p:nvPr/>
        </p:nvPicPr>
        <p:blipFill>
          <a:blip r:embed="rId1"/>
          <a:stretch/>
        </p:blipFill>
        <p:spPr>
          <a:xfrm>
            <a:off x="826920" y="549360"/>
            <a:ext cx="74757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Tackling coastal management issu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Raise awareness and facilitate community engagement in conservation 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stablish local management groups from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 education programm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 with local 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ganise events – e.g. beach cle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gage tourism businesses as champ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MG_9227"/>
          <p:cNvPicPr/>
          <p:nvPr/>
        </p:nvPicPr>
        <p:blipFill>
          <a:blip r:embed="rId1"/>
          <a:stretch/>
        </p:blipFill>
        <p:spPr>
          <a:xfrm>
            <a:off x="880920" y="115920"/>
            <a:ext cx="74757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5" name="Picture 8" descr="Community_Radio_in_Ghana_001"/>
          <p:cNvPicPr/>
          <p:nvPr/>
        </p:nvPicPr>
        <p:blipFill>
          <a:blip r:embed="rId1"/>
          <a:stretch/>
        </p:blipFill>
        <p:spPr>
          <a:xfrm>
            <a:off x="755640" y="1052640"/>
            <a:ext cx="5545080" cy="360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image_preview-2"/>
          <p:cNvPicPr/>
          <p:nvPr/>
        </p:nvPicPr>
        <p:blipFill>
          <a:blip r:embed="rId2"/>
          <a:stretch/>
        </p:blipFill>
        <p:spPr>
          <a:xfrm>
            <a:off x="4788000" y="32846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17:39Z</dcterms:created>
  <dc:creator>UNWTO</dc:creator>
  <dc:description/>
  <dc:language>en-US</dc:language>
  <cp:lastModifiedBy>Richard Denman</cp:lastModifiedBy>
  <cp:lastPrinted>2013-10-19T18:19:27Z</cp:lastPrinted>
  <dcterms:modified xsi:type="dcterms:W3CDTF">2013-10-19T18:22:58Z</dcterms:modified>
  <cp:revision>49</cp:revision>
  <dc:subject/>
  <dc:title>PowerPoint Presentation</dc:title>
</cp:coreProperties>
</file>